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camera.wav" ContentType="audio/x-wav"/>
  <Override PartName="/ppt/media/image4.jpeg" ContentType="image/jpeg"/>
  <Override PartName="/ppt/media/image2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png" ContentType="image/png"/>
  <Override PartName="/ppt/media/image30.gif" ContentType="image/gif"/>
  <Override PartName="/ppt/media/image23.png" ContentType="image/png"/>
  <Override PartName="/ppt/media/image13.jpeg" ContentType="image/jpeg"/>
  <Override PartName="/ppt/media/image31.png" ContentType="image/png"/>
  <Override PartName="/ppt/media/image32.png" ContentType="image/png"/>
  <Override PartName="/ppt/media/image3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310-3070-4CE6-9059-91372878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A23-B9F0-43DA-A57E-B9A575FE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F2E-FDF4-4247-908D-E8BE5486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C53-9677-4403-B0B8-F72A4F59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263F-45F1-428D-8EA2-01B973F2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958C-BFAC-427D-A461-EF120874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6919-BF23-45B6-87ED-B1BA245A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6CC8-1D9E-453D-A177-716A6617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BF4D-B831-42D8-9DC7-D6A32FC0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2142-25AA-4A81-9A5E-2D7B3B7F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270D-07A7-484D-9714-0F87C940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18D-3459-42A8-B9BC-5799A20A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9E62-7D7F-45A3-9A2D-78116B0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C3E4-3A94-4A13-824C-828A97F3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2F75-9BF4-424C-A88F-CEE7D094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480D-C0D7-4A57-98AF-BFE70359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0979-0D5B-418B-978B-68F7DC1A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BDF8-3971-435E-906A-AED214A6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C5D4-9EC1-416C-A2CE-907BD891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7DFA-BDCD-4063-8128-BC3C36E3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6B7B3-31A5-479C-9D53-4A89DACD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10F2-2D45-47E6-A849-EB8B30F3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97F-2B2F-4338-BAF0-AFD7EB70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6312-35EA-4EDA-B6B0-11B10469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EFAA1-C309-4F4C-BA31-7FEF9819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F2658-2912-4091-AEC2-A320DFE5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220A-47C2-4CA0-ACDE-8603913F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781B6-F80D-483A-A580-DA4AF49E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F182-07A9-468D-8FF4-08864DE3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A249-46BC-4F35-A606-CFE22157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6E0DB-02A2-4766-A1CC-4005F77F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0CAA-F229-4842-B386-01607E98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26CA1-595F-4144-B2DA-D788A754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55A-61C3-48FE-A796-D2AF34DB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572B4-160C-46F7-873F-6953D913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45A5-3CC0-4207-A105-4368A174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429E-FB7A-44FA-878C-E8F65832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948D-20D1-4B15-A9C7-E1292C9A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87A9-86B0-455C-A916-A1024361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1FB60-8B7E-4D25-B9B2-B990B9A6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558D-92B8-4216-BCA5-44993387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A7DBD-5FE4-4DEF-AED4-04E0C0B1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57C4C-C977-4355-A8A6-E0237953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E4034-1E8B-4D2E-924E-9AF94A24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6EF-F68D-4160-ADB7-83D0CA40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C0C99-6F2F-4459-8744-42894565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5AC79-C6EB-4617-B99A-81D76C34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62EB0-DCB7-4A7F-858F-732DE860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0486F-8ACA-4CC7-A50A-C5800951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FF4B3-2029-4698-A690-70ACEDAB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41ED0-DEE7-4F0C-B8B2-EE60376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CD14-1D05-41A1-B2DF-264BCE10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9164-0A8C-4BFC-A46C-1190A60D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E69B3-724A-4A11-8EF0-EB0A66CC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D341B-8FFC-4DE6-B2BD-38C90041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547-73DB-40EF-9F19-3D9B5F3A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A2C0F-3701-41C2-80D2-7F92F519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DFC-9F2D-4222-AAEF-6B6EF7CB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484-E292-45EF-893E-DE7022E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3AE-98A7-4860-97C2-147995A8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3A63-5B33-4E39-B8B7-FDA7F67F10D7}" type="slidenum">
              <a:rPr b="0" lang="es-ES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5CE6-2572-4BED-84AC-F83C5F5873CB}" type="slidenum">
              <a:rPr b="0" lang="es-ES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d364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d364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d364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DEF9-CE3D-4EFA-803D-78AA5017F42E}" type="slidenum">
              <a:rPr b="0" lang="es-ES" sz="1200" spc="-1" strike="noStrike">
                <a:solidFill>
                  <a:srgbClr val="1d36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E4A5-F315-4AE9-BF7B-8F1D2FD7765F}" type="slidenum">
              <a:rPr b="0" lang="es-ES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C7F3-FBB3-4B7A-A77F-055AE39EC224}" type="slidenum">
              <a:rPr b="0" lang="es-ES" sz="1200" spc="-1" strike="noStrike">
                <a:solidFill>
                  <a:srgbClr val="dfe6d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8.png"/><Relationship Id="rId5" Type="http://schemas.openxmlformats.org/officeDocument/2006/relationships/hyperlink" Target="https://www.youtube.com/watch?v=sQOMoLmlrqQ" TargetMode="External"/><Relationship Id="rId6" Type="http://schemas.openxmlformats.org/officeDocument/2006/relationships/image" Target="../media/image19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311040" y="615960"/>
            <a:ext cx="8388360" cy="1346040"/>
          </a:xfrm>
          <a:prstGeom prst="rect">
            <a:avLst/>
          </a:prstGeom>
          <a:ln w="0">
            <a:noFill/>
          </a:ln>
        </p:spPr>
      </p:pic>
      <p:pic>
        <p:nvPicPr>
          <p:cNvPr id="391" name="3 Imagen" descr=""/>
          <p:cNvPicPr/>
          <p:nvPr/>
        </p:nvPicPr>
        <p:blipFill>
          <a:blip r:embed="rId2"/>
          <a:stretch/>
        </p:blipFill>
        <p:spPr>
          <a:xfrm>
            <a:off x="611280" y="2009880"/>
            <a:ext cx="7921440" cy="4298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1 Título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Cultural y Monumental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Albacete: Alcaraz y Almans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Ciudad Real: Almagro y Viso del Marqué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Cuenca: Alarcón, Segóbriga, y Belmont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Guadalajara: Sigüenza y Pastran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Toledo: Tembleque y Oropes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.De Naturaleza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Guadalajara: El Hayedo de Tejera Negr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Entre Toledo y C. Real: Cabañer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33" name="1 Imagen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34" name="2 Imagen" descr=""/>
          <p:cNvPicPr/>
          <p:nvPr/>
        </p:nvPicPr>
        <p:blipFill>
          <a:blip r:embed="rId3"/>
          <a:stretch/>
        </p:blipFill>
        <p:spPr>
          <a:xfrm>
            <a:off x="6875640" y="1628640"/>
            <a:ext cx="156204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1 Título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772400" cy="10047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78920" y="2133720"/>
            <a:ext cx="44197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El comercio: es la actividad de comprar y vender productos.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Personas que compran: consumidores.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Personas que venden: vendedores.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Lugares de compra-venta: establecimientos comerciales, mercadillos , ferias…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También se puede realizar esta actividad por catálogo, por internet.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w Cen MT"/>
              </a:rPr>
              <a:t>-Las actividades comerciales: son las actividades relacionadas con la compra y venta de productos</a:t>
            </a:r>
            <a:endParaRPr b="0" lang="en-US" sz="1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3 Imagen" descr=""/>
          <p:cNvPicPr/>
          <p:nvPr/>
        </p:nvPicPr>
        <p:blipFill>
          <a:blip r:embed="rId2"/>
          <a:stretch/>
        </p:blipFill>
        <p:spPr>
          <a:xfrm>
            <a:off x="5148360" y="2754360"/>
            <a:ext cx="3600360" cy="4103640"/>
          </a:xfrm>
          <a:prstGeom prst="rect">
            <a:avLst/>
          </a:prstGeom>
          <a:ln w="0">
            <a:noFill/>
          </a:ln>
        </p:spPr>
      </p:pic>
      <p:pic>
        <p:nvPicPr>
          <p:cNvPr id="395" name="4 Imagen" descr=""/>
          <p:cNvPicPr/>
          <p:nvPr/>
        </p:nvPicPr>
        <p:blipFill>
          <a:blip r:embed="rId3"/>
          <a:stretch/>
        </p:blipFill>
        <p:spPr>
          <a:xfrm>
            <a:off x="468360" y="50760"/>
            <a:ext cx="3627360" cy="1728720"/>
          </a:xfrm>
          <a:prstGeom prst="rect">
            <a:avLst/>
          </a:prstGeom>
          <a:ln w="0">
            <a:noFill/>
          </a:ln>
        </p:spPr>
      </p:pic>
      <p:pic>
        <p:nvPicPr>
          <p:cNvPr id="396" name="5 Imagen" descr=""/>
          <p:cNvPicPr/>
          <p:nvPr/>
        </p:nvPicPr>
        <p:blipFill>
          <a:blip r:embed="rId4"/>
          <a:stretch/>
        </p:blipFill>
        <p:spPr>
          <a:xfrm>
            <a:off x="268200" y="4653000"/>
            <a:ext cx="3633840" cy="2039760"/>
          </a:xfrm>
          <a:prstGeom prst="rect">
            <a:avLst/>
          </a:prstGeom>
          <a:ln w="0">
            <a:noFill/>
          </a:ln>
        </p:spPr>
      </p:pic>
      <p:pic>
        <p:nvPicPr>
          <p:cNvPr id="397" name="6 Imagen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345924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826920" y="1413000"/>
            <a:ext cx="7274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A todas las actividades relacionadas con la compra y venta de productos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Personas relacionadas con estas Actividades: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Fabricante: fabrica el producto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Publicista: hace campañas para  dar a conocer el producto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Distribuidor: transporta los productos de la fábrica hasta la tienda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Escaparatista: coloca los productos en los escaparates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	</a:t>
            </a:r>
            <a:r>
              <a:rPr b="0" lang="es-ES" sz="1500" spc="-1" strike="noStrike">
                <a:solidFill>
                  <a:srgbClr val="dfe6d0"/>
                </a:solidFill>
                <a:latin typeface="Tw Cen MT"/>
              </a:rPr>
              <a:t>Dependiente: atiende en la tienda y cobra el producto.</a:t>
            </a: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  <a:p>
            <a:pPr marL="267120" indent="-267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1 Imagen" descr=""/>
          <p:cNvPicPr/>
          <p:nvPr/>
        </p:nvPicPr>
        <p:blipFill>
          <a:blip r:embed="rId2"/>
          <a:stretch/>
        </p:blipFill>
        <p:spPr>
          <a:xfrm>
            <a:off x="179280" y="3770280"/>
            <a:ext cx="1800360" cy="2808360"/>
          </a:xfrm>
          <a:prstGeom prst="rect">
            <a:avLst/>
          </a:prstGeom>
          <a:ln w="0">
            <a:noFill/>
          </a:ln>
        </p:spPr>
      </p:pic>
      <p:pic>
        <p:nvPicPr>
          <p:cNvPr id="401" name="2 Imagen" descr=""/>
          <p:cNvPicPr/>
          <p:nvPr/>
        </p:nvPicPr>
        <p:blipFill>
          <a:blip r:embed="rId3"/>
          <a:stretch/>
        </p:blipFill>
        <p:spPr>
          <a:xfrm>
            <a:off x="1979640" y="3770280"/>
            <a:ext cx="1841400" cy="2808360"/>
          </a:xfrm>
          <a:prstGeom prst="rect">
            <a:avLst/>
          </a:prstGeom>
          <a:ln w="0">
            <a:noFill/>
          </a:ln>
        </p:spPr>
      </p:pic>
      <p:pic>
        <p:nvPicPr>
          <p:cNvPr id="402" name="3 Imagen" descr=""/>
          <p:cNvPicPr/>
          <p:nvPr/>
        </p:nvPicPr>
        <p:blipFill>
          <a:blip r:embed="rId4"/>
          <a:stretch/>
        </p:blipFill>
        <p:spPr>
          <a:xfrm>
            <a:off x="5143680" y="3768840"/>
            <a:ext cx="2076120" cy="2752560"/>
          </a:xfrm>
          <a:prstGeom prst="rect">
            <a:avLst/>
          </a:prstGeom>
          <a:ln w="0">
            <a:noFill/>
          </a:ln>
        </p:spPr>
      </p:pic>
      <p:pic>
        <p:nvPicPr>
          <p:cNvPr id="403" name="4 Imagen" descr=""/>
          <p:cNvPicPr/>
          <p:nvPr/>
        </p:nvPicPr>
        <p:blipFill>
          <a:blip r:embed="rId5"/>
          <a:stretch/>
        </p:blipFill>
        <p:spPr>
          <a:xfrm>
            <a:off x="3805200" y="3768840"/>
            <a:ext cx="1338480" cy="2754360"/>
          </a:xfrm>
          <a:prstGeom prst="rect">
            <a:avLst/>
          </a:prstGeom>
          <a:ln w="0">
            <a:noFill/>
          </a:ln>
        </p:spPr>
      </p:pic>
      <p:pic>
        <p:nvPicPr>
          <p:cNvPr id="404" name="5 Imagen" descr=""/>
          <p:cNvPicPr/>
          <p:nvPr/>
        </p:nvPicPr>
        <p:blipFill>
          <a:blip r:embed="rId6"/>
          <a:stretch/>
        </p:blipFill>
        <p:spPr>
          <a:xfrm>
            <a:off x="7219800" y="3770280"/>
            <a:ext cx="160020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6840" y="981000"/>
            <a:ext cx="69231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fe6d0"/>
                </a:solidFill>
                <a:latin typeface="Tw Cen MT"/>
              </a:rPr>
              <a:t>Pequeño comercio y grandes superficies. (pequeña tienda e hipermercado o gran superficie)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 algn="just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fe6d0"/>
                </a:solidFill>
                <a:latin typeface="Tw Cen MT"/>
              </a:rPr>
              <a:t>Comercio al por mayor y al por menor: son tiendas que venden directamente al consumidor en pequeñas o en grandes cantidades a una tienda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 algn="just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fe6d0"/>
                </a:solidFill>
                <a:latin typeface="Tw Cen MT"/>
              </a:rPr>
              <a:t>Comercio nacional (en el mismo país) e internacional (entre países)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7" name="1 Imagen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3362400" cy="2087640"/>
          </a:xfrm>
          <a:prstGeom prst="rect">
            <a:avLst/>
          </a:prstGeom>
          <a:ln w="0">
            <a:noFill/>
          </a:ln>
        </p:spPr>
      </p:pic>
      <p:pic>
        <p:nvPicPr>
          <p:cNvPr id="408" name="2 Imagen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2627280" cy="1967040"/>
          </a:xfrm>
          <a:prstGeom prst="rect">
            <a:avLst/>
          </a:prstGeom>
          <a:ln w="0">
            <a:noFill/>
          </a:ln>
        </p:spPr>
      </p:pic>
      <p:pic>
        <p:nvPicPr>
          <p:cNvPr id="409" name="3 Imagen" descr=""/>
          <p:cNvPicPr/>
          <p:nvPr/>
        </p:nvPicPr>
        <p:blipFill>
          <a:blip r:embed="rId4"/>
          <a:stretch/>
        </p:blipFill>
        <p:spPr>
          <a:xfrm>
            <a:off x="1042920" y="4869000"/>
            <a:ext cx="2859120" cy="1604880"/>
          </a:xfrm>
          <a:prstGeom prst="rect">
            <a:avLst/>
          </a:prstGeom>
          <a:ln w="0">
            <a:noFill/>
          </a:ln>
        </p:spPr>
      </p:pic>
      <p:pic>
        <p:nvPicPr>
          <p:cNvPr id="410" name="4 Imagen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96360" y="1052640"/>
            <a:ext cx="1284120" cy="1284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7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 Título" descr=""/>
          <p:cNvPicPr/>
          <p:nvPr/>
        </p:nvPicPr>
        <p:blipFill>
          <a:blip r:embed="rId1"/>
          <a:stretch/>
        </p:blipFill>
        <p:spPr>
          <a:xfrm>
            <a:off x="274680" y="24912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68360" y="10522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fe6d0"/>
                </a:solidFill>
                <a:latin typeface="Tw Cen MT"/>
              </a:rPr>
              <a:t>Tipos de vías: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dfe6d0"/>
                </a:solidFill>
                <a:latin typeface="Tw Cen MT"/>
              </a:rPr>
              <a:t>Caminos/Carreteras(Autopistas, Autovías)/Vías de tren/Rutas marítimas/Rutas aéreas.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3" name="1 Imagen" descr=""/>
          <p:cNvPicPr/>
          <p:nvPr/>
        </p:nvPicPr>
        <p:blipFill>
          <a:blip r:embed="rId2"/>
          <a:stretch/>
        </p:blipFill>
        <p:spPr>
          <a:xfrm>
            <a:off x="611280" y="2505240"/>
            <a:ext cx="8064360" cy="3876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1 Título" descr=""/>
          <p:cNvPicPr/>
          <p:nvPr/>
        </p:nvPicPr>
        <p:blipFill>
          <a:blip r:embed="rId1"/>
          <a:stretch/>
        </p:blipFill>
        <p:spPr>
          <a:xfrm>
            <a:off x="171360" y="212760"/>
            <a:ext cx="7356600" cy="1635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24000" y="1413000"/>
            <a:ext cx="45352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dfe6d0"/>
                </a:solidFill>
                <a:latin typeface="Tw Cen MT"/>
              </a:rPr>
              <a:t>Carreteras: A-2, A-3, A-4, A-5 que comunica Madrid con distintas comunidades atravesando la nuestra.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dfe6d0"/>
                </a:solidFill>
                <a:latin typeface="Tw Cen MT"/>
              </a:rPr>
              <a:t>Ferroviaria: Tren de Alta Velocidad (AVE).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dfe6d0"/>
                </a:solidFill>
                <a:latin typeface="Tw Cen MT"/>
              </a:rPr>
              <a:t>Aérea: Albacete, el único aeropuerto.</a:t>
            </a:r>
            <a:endParaRPr b="0" lang="en-US" sz="13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6" name="1 Imagen" descr=""/>
          <p:cNvPicPr/>
          <p:nvPr/>
        </p:nvPicPr>
        <p:blipFill>
          <a:blip r:embed="rId2"/>
          <a:stretch/>
        </p:blipFill>
        <p:spPr>
          <a:xfrm>
            <a:off x="1187280" y="4292640"/>
            <a:ext cx="1200240" cy="1201680"/>
          </a:xfrm>
          <a:prstGeom prst="rect">
            <a:avLst/>
          </a:prstGeom>
          <a:ln w="0">
            <a:noFill/>
          </a:ln>
        </p:spPr>
      </p:pic>
      <p:pic>
        <p:nvPicPr>
          <p:cNvPr id="417" name="2 Imagen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248360" cy="4032360"/>
          </a:xfrm>
          <a:prstGeom prst="rect">
            <a:avLst/>
          </a:prstGeom>
          <a:ln w="0">
            <a:noFill/>
          </a:ln>
        </p:spPr>
      </p:pic>
      <p:pic>
        <p:nvPicPr>
          <p:cNvPr id="418" name="3 Imagen" descr=""/>
          <p:cNvPicPr/>
          <p:nvPr/>
        </p:nvPicPr>
        <p:blipFill>
          <a:blip r:embed="rId4"/>
          <a:stretch/>
        </p:blipFill>
        <p:spPr>
          <a:xfrm>
            <a:off x="5003640" y="2398680"/>
            <a:ext cx="3889440" cy="4054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Medios de comunicación directa entre 2 personas: correo y teléfono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Medios que transmiten la información a muchas personas: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Prens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Radio      </a:t>
            </a: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Televisió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spcBef>
                <a:spcPts val="4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1" name="1 Imagen" descr=""/>
          <p:cNvPicPr/>
          <p:nvPr/>
        </p:nvPicPr>
        <p:blipFill>
          <a:blip r:embed="rId2"/>
          <a:stretch/>
        </p:blipFill>
        <p:spPr>
          <a:xfrm>
            <a:off x="900000" y="5597640"/>
            <a:ext cx="779400" cy="780840"/>
          </a:xfrm>
          <a:prstGeom prst="rect">
            <a:avLst/>
          </a:prstGeom>
          <a:ln w="0">
            <a:noFill/>
          </a:ln>
        </p:spPr>
      </p:pic>
      <p:pic>
        <p:nvPicPr>
          <p:cNvPr id="422" name="4 Imagen" descr=""/>
          <p:cNvPicPr/>
          <p:nvPr/>
        </p:nvPicPr>
        <p:blipFill>
          <a:blip r:embed="rId3"/>
          <a:stretch/>
        </p:blipFill>
        <p:spPr>
          <a:xfrm>
            <a:off x="7388280" y="5597640"/>
            <a:ext cx="780840" cy="780840"/>
          </a:xfrm>
          <a:prstGeom prst="rect">
            <a:avLst/>
          </a:prstGeom>
          <a:ln w="0">
            <a:noFill/>
          </a:ln>
        </p:spPr>
      </p:pic>
      <p:pic>
        <p:nvPicPr>
          <p:cNvPr id="423" name="2 Imagen" descr=""/>
          <p:cNvPicPr/>
          <p:nvPr/>
        </p:nvPicPr>
        <p:blipFill>
          <a:blip r:embed="rId4"/>
          <a:stretch/>
        </p:blipFill>
        <p:spPr>
          <a:xfrm>
            <a:off x="2484360" y="3429000"/>
            <a:ext cx="38880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Hacer turismo es viajar por placer para conocer y disfrutar de lugares nuevo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Las actividades turísticas son los trabajos relacionados con las actividades turística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6" name="1 Imagen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929040" cy="3591000"/>
          </a:xfrm>
          <a:prstGeom prst="rect">
            <a:avLst/>
          </a:prstGeom>
          <a:ln w="0">
            <a:noFill/>
          </a:ln>
        </p:spPr>
      </p:pic>
      <p:pic>
        <p:nvPicPr>
          <p:cNvPr id="427" name="2 Imagen" descr=""/>
          <p:cNvPicPr/>
          <p:nvPr/>
        </p:nvPicPr>
        <p:blipFill>
          <a:blip r:embed="rId3"/>
          <a:stretch/>
        </p:blipFill>
        <p:spPr>
          <a:xfrm>
            <a:off x="2124000" y="4076640"/>
            <a:ext cx="1560600" cy="1560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1 Título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Turismo de sol y play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Turismo de naturaleza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Turismo rura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e6d0"/>
                </a:solidFill>
                <a:latin typeface="Tw Cen MT"/>
              </a:rPr>
              <a:t>Turismo cultural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30" name="1 Imagen" descr=""/>
          <p:cNvPicPr/>
          <p:nvPr/>
        </p:nvPicPr>
        <p:blipFill>
          <a:blip r:embed="rId2"/>
          <a:stretch/>
        </p:blipFill>
        <p:spPr>
          <a:xfrm>
            <a:off x="3492360" y="3068640"/>
            <a:ext cx="533412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20:23:03Z</dcterms:created>
  <dc:creator>familia garcia</dc:creator>
  <dc:description/>
  <dc:language>en-US</dc:language>
  <cp:lastModifiedBy>familia garcia</cp:lastModifiedBy>
  <dcterms:modified xsi:type="dcterms:W3CDTF">2015-05-10T15:29:56Z</dcterms:modified>
  <cp:revision>15</cp:revision>
  <dc:subject/>
  <dc:title>EL COMERCIO Y LAS ACTIVIDADES COMERCIALES</dc:title>
</cp:coreProperties>
</file>